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6.jpeg" ContentType="image/jpeg"/>
  <Override PartName="/ppt/media/image23.wmf" ContentType="image/x-wmf"/>
  <Override PartName="/ppt/media/image22.wmf" ContentType="image/x-wmf"/>
  <Override PartName="/ppt/media/image20.gif" ContentType="image/gif"/>
  <Override PartName="/ppt/media/image21.wmf" ContentType="image/x-wmf"/>
  <Override PartName="/ppt/media/image18.jpeg" ContentType="image/jpeg"/>
  <Override PartName="/ppt/media/image24.wmf" ContentType="image/x-wmf"/>
  <Override PartName="/ppt/media/image1.wmf" ContentType="image/x-wmf"/>
  <Override PartName="/ppt/media/image5.gif" ContentType="image/gif"/>
  <Override PartName="/ppt/media/image28.png" ContentType="image/png"/>
  <Override PartName="/ppt/media/image2.wmf" ContentType="image/x-wmf"/>
  <Override PartName="/ppt/media/image32.wmf" ContentType="image/x-wmf"/>
  <Override PartName="/ppt/media/image14.wmf" ContentType="image/x-wmf"/>
  <Override PartName="/ppt/media/image35.jpeg" ContentType="image/jpeg"/>
  <Override PartName="/ppt/media/image13.wmf" ContentType="image/x-wmf"/>
  <Override PartName="/ppt/media/image30.png" ContentType="image/png"/>
  <Override PartName="/ppt/media/image37.jpeg" ContentType="image/jpeg"/>
  <Override PartName="/ppt/media/image8.wmf" ContentType="image/x-wmf"/>
  <Override PartName="/ppt/media/image34.wmf" ContentType="image/x-wmf"/>
  <Override PartName="/ppt/media/image9.wmf" ContentType="image/x-wmf"/>
  <Override PartName="/ppt/media/image36.jpeg" ContentType="image/jpeg"/>
  <Override PartName="/ppt/media/image38.png" ContentType="image/png"/>
  <Override PartName="/ppt/media/image39.jpeg" ContentType="image/jpeg"/>
  <Override PartName="/ppt/media/image41.gif" ContentType="image/gif"/>
  <Override PartName="/ppt/media/image44.png" ContentType="image/png"/>
  <Override PartName="/ppt/media/image40.wmf" ContentType="image/x-wmf"/>
  <Override PartName="/ppt/media/image31.png" ContentType="image/png"/>
  <Override PartName="/ppt/media/image42.wmf" ContentType="image/x-wmf"/>
  <Override PartName="/ppt/media/image43.wmf" ContentType="image/x-wmf"/>
  <Override PartName="/ppt/media/image10.wmf" ContentType="image/x-wmf"/>
  <Override PartName="/ppt/media/image25.jpeg" ContentType="image/jpeg"/>
  <Override PartName="/ppt/media/image16.wmf" ContentType="image/x-wmf"/>
  <Override PartName="/ppt/media/image12.wmf" ContentType="image/x-wmf"/>
  <Override PartName="/ppt/media/image7.wmf" ContentType="image/x-wmf"/>
  <Override PartName="/ppt/media/image27.png" ContentType="image/png"/>
  <Override PartName="/ppt/media/image4.gif" ContentType="image/gif"/>
  <Override PartName="/ppt/media/image15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3.gif" ContentType="image/gif"/>
  <Override PartName="/ppt/media/image3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77075" cy="93821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79E4-8E48-4460-8B71-E7736C275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E23E-2833-41C5-B5D7-11B86733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F238-13A1-4205-B21E-048256CD4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EF4B-A594-4426-BE72-679D25BA8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6C4C-75F5-42A3-A963-29F7159B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1583-8571-4E4D-B02B-51943DB5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BF65-7FC0-420F-A47F-1C97E048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B6F1-A7ED-4556-BD2A-7F6500CA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91BB-5593-4A57-9C95-B2E2E0F0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D5A0-A525-44E1-B00E-363A566F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AF23-D741-46EB-9C87-DADF8140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A7DA-3E0C-4183-A056-20A1662F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ED88-2AF2-4199-ACA1-435F56D52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wmf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6.wmf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 u="sng">
                <a:solidFill>
                  <a:srgbClr val="000000"/>
                </a:solidFill>
                <a:uFillTx/>
                <a:latin typeface="Showcard Gothic"/>
              </a:rPr>
              <a:t>The Sense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 35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ind the lens is a chamber filled with vitreous humor (a transparent, jelly-like fl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s focused on re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receptors found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s light to nerve impulses which are then carried to the C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048120" y="2514600"/>
            <a:ext cx="1066680" cy="1027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855720" cy="1062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286000" y="5334120"/>
            <a:ext cx="1189080" cy="1295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505320" y="59436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5791320" y="5029200"/>
            <a:ext cx="166680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types of photoreceptors found on the reti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ensitive to light but not to col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s sensitive to light but responds to light of different colors, producing color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629400" y="1600200"/>
            <a:ext cx="1639800" cy="2185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172200" y="4495680"/>
            <a:ext cx="257976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es are concentrated in the fov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vea = site of sharpest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lind spot is a spot on the retina where no photoreceptors ex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ind spot = where optic nerve passes through back of 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40194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025720" y="1409760"/>
            <a:ext cx="4908600" cy="425592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938520" y="1193760"/>
            <a:ext cx="7216200" cy="4721400"/>
            <a:chOff x="938520" y="1193760"/>
            <a:chExt cx="7216200" cy="4721400"/>
          </a:xfrm>
        </p:grpSpPr>
        <p:sp>
          <p:nvSpPr>
            <p:cNvPr id="97" name=""/>
            <p:cNvSpPr/>
            <p:nvPr/>
          </p:nvSpPr>
          <p:spPr>
            <a:xfrm>
              <a:off x="2831400" y="5638680"/>
              <a:ext cx="71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oro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34960" y="4952880"/>
              <a:ext cx="62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t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38520" y="449568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lood vesse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30040" y="3594240"/>
              <a:ext cx="96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tic nerv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486080" y="2502000"/>
              <a:ext cx="60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v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32480" y="1193760"/>
              <a:ext cx="1217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treous hum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91480" y="5638680"/>
              <a:ext cx="61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le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95080" y="4775040"/>
              <a:ext cx="88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ga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97960" y="396252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r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96160" y="3467160"/>
              <a:ext cx="5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p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82840" y="3060720"/>
              <a:ext cx="68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rn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93640" y="2641680"/>
              <a:ext cx="126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queous hum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96160" y="2273400"/>
              <a:ext cx="51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79240" y="183348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usc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838080" y="762120"/>
            <a:ext cx="14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35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35-14 The E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tree falls in the woods and no one is there to hear, does it make a soun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581280" y="3124080"/>
            <a:ext cx="274320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77880" y="1484280"/>
            <a:ext cx="5896080" cy="423072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555480" y="1109520"/>
            <a:ext cx="7753680" cy="4315320"/>
            <a:chOff x="555480" y="1109520"/>
            <a:chExt cx="7753680" cy="4315320"/>
          </a:xfrm>
        </p:grpSpPr>
        <p:sp>
          <p:nvSpPr>
            <p:cNvPr id="118" name=""/>
            <p:cNvSpPr/>
            <p:nvPr/>
          </p:nvSpPr>
          <p:spPr>
            <a:xfrm>
              <a:off x="555480" y="4729320"/>
              <a:ext cx="140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uditory ca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22720" y="5072040"/>
              <a:ext cx="94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ympan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15120" y="514836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und windo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29720" y="5148360"/>
              <a:ext cx="1279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ustachian tub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13120" y="4233960"/>
              <a:ext cx="53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435080" y="324324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chl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20960" y="2023920"/>
              <a:ext cx="1217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chlear nerv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278320" y="1566720"/>
              <a:ext cx="1503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micircular can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70280" y="110952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val windo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90120" y="1414440"/>
              <a:ext cx="63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irru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32560" y="144468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v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23800" y="1596960"/>
              <a:ext cx="76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am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838080" y="762120"/>
            <a:ext cx="14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35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35-15 The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 is vibrations in the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ar distinguishes the pitch and loudness of the vib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brations enter the ear through the auditory ca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vibrations hit the tympanum (eardru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9480" y="3986280"/>
            <a:ext cx="4343400" cy="2871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638680" y="4419720"/>
            <a:ext cx="20131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ibrations picked up by the tympanum are transferred to three b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mmer, anvil, stirr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re the smallest bones in the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irrup transmits the vibrations to the oval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oval window vibrates, it creates pressure waves in the cochl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286000" y="3048120"/>
            <a:ext cx="1038240" cy="998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343400" y="2971800"/>
            <a:ext cx="906480" cy="792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172200" y="2286000"/>
            <a:ext cx="1027080" cy="15415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6629400" y="4724280"/>
            <a:ext cx="2114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chl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9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chlea is fluid-filled and lined with tiny h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ssure waves produced by the oval window push the hairs back and fo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hair movement produces a nerve impulse that is transmitted through the cochlear nerve to the C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40384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6320" y="304920"/>
            <a:ext cx="9067680" cy="60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ory Recep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ory recep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 to specific stimu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muli include light, sound, motion, chemicals, pressure, and changes in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4724280"/>
            <a:ext cx="1315800" cy="1905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962520" y="4495680"/>
            <a:ext cx="1630080" cy="2025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715000" y="4876920"/>
            <a:ext cx="1676520" cy="1409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828800" y="4800600"/>
            <a:ext cx="1849320" cy="1833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315200" y="4970520"/>
            <a:ext cx="140328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circular canals, and two tiny sacs behind them, monitor the position of your body, especially your head, in relation to gr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anal and sac is filled with fluid and 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your head changes position, the fluid moves causing the hair to b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NS receives a nerve impulse to determine body motion and 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0592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ell and Ta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nses of smell and taste are a result of chemoreceptors sending nerve impulses in response to chemicals in th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el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ility of chemoreceptors lining the nasal passageway to respond to chemic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t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of taste buds to detect chemic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te buds are broken into categories: salty, bitter, sweet, and s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ongue’s sensitivity to each varies by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1828800" cy="14558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238880" y="228600"/>
            <a:ext cx="89064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u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 unique sense in that the nerves are not found in one particular region of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egions of skin are sensitive to to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sponds to temperature, pressure, and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body parts have different concentrations of ne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touch receptors found on fingers, toes, and 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8600" y="5257800"/>
            <a:ext cx="3689280" cy="1271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191120" y="5334120"/>
            <a:ext cx="1938240" cy="1357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553080" y="5303880"/>
            <a:ext cx="215748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474920" y="1150920"/>
            <a:ext cx="6710400" cy="449568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684720" y="977760"/>
            <a:ext cx="5395320" cy="4637520"/>
            <a:chOff x="684720" y="977760"/>
            <a:chExt cx="5395320" cy="4637520"/>
          </a:xfrm>
        </p:grpSpPr>
        <p:sp>
          <p:nvSpPr>
            <p:cNvPr id="162" name=""/>
            <p:cNvSpPr/>
            <p:nvPr/>
          </p:nvSpPr>
          <p:spPr>
            <a:xfrm>
              <a:off x="684720" y="2146320"/>
              <a:ext cx="122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erebral cort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6560" y="3073320"/>
              <a:ext cx="100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sal cav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488680" y="3637080"/>
              <a:ext cx="861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aste bu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03400" y="3162240"/>
              <a:ext cx="1285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mel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sory a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54480" y="1384200"/>
              <a:ext cx="858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as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sory a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92640" y="2019240"/>
              <a:ext cx="85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alam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14720" y="977760"/>
              <a:ext cx="968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lfac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mell) bul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93280" y="1650960"/>
              <a:ext cx="792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lfac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erv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89520" y="2590920"/>
              <a:ext cx="871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mell recep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15080" y="3645000"/>
              <a:ext cx="695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aste po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02120" y="4165560"/>
              <a:ext cx="87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aste recep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02120" y="5156280"/>
              <a:ext cx="117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s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erve fib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838080" y="762120"/>
            <a:ext cx="14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35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Senses of Smell and T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ory Recep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nsory receptor reacts to a specific stimulus by sending impulses to other neurons, and eventually to the central nervous system (C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sensory receptors are found in sense 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. eyes, inner ear, nose, mouth, and 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5257800"/>
            <a:ext cx="1446120" cy="914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86000" y="5105520"/>
            <a:ext cx="895320" cy="1371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505320" y="5029200"/>
            <a:ext cx="1436400" cy="1447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181480" y="5410080"/>
            <a:ext cx="1589040" cy="722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7010280" y="4923000"/>
            <a:ext cx="175284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egories of Sensory Recep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five major categories of sensory recep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pain re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rmore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mechanore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chemorecep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photore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791320" y="2743200"/>
            <a:ext cx="28335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egories of Sensory Recep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 re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 all over the body EXCEPT in the 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d to chemicals released by damaged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more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ed in the skin, body core, and hypothala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ct variations in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ore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 in the skin, skeletal muscles, and inner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itive to touch, pressure, stretching of muscles, sound, and 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315200" y="1371600"/>
            <a:ext cx="1428840" cy="1563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792920" y="3200400"/>
            <a:ext cx="1351080" cy="1447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952880" y="5781600"/>
            <a:ext cx="312444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egories of Sensory Recep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ore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d in the nose and taste bu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ve to chemicals in the external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re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d in the e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ve to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666880" y="2895480"/>
            <a:ext cx="1219320" cy="1163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1319040" cy="1144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572000" y="4343400"/>
            <a:ext cx="1446120" cy="914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200400" y="5637240"/>
            <a:ext cx="183204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07732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enters through the cornea (a tough transparent layer of ce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nea helps focus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passes through a chamber filled with a liquid called aqueous hum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back of the chamber is the i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is is the colored part of 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562720" y="5181480"/>
            <a:ext cx="2133360" cy="1422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724280" y="586728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middle of the iris is the pupil (small ope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es the amount of light that enters the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ind the iris is the l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shape to help adjust the eye’s focus to see near or distant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led by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934320" y="4780080"/>
            <a:ext cx="1981080" cy="1744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858000" y="228600"/>
            <a:ext cx="1981080" cy="1320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flipV="1">
            <a:off x="6400800" y="914040"/>
            <a:ext cx="1447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16:57:08Z</dcterms:created>
  <dc:creator>bpalme</dc:creator>
  <dc:description/>
  <dc:language>en-US</dc:language>
  <cp:lastModifiedBy>Preferred Customer</cp:lastModifiedBy>
  <dcterms:modified xsi:type="dcterms:W3CDTF">2009-12-03T01:40:13Z</dcterms:modified>
  <cp:revision>6</cp:revision>
  <dc:subject/>
  <dc:title>The Senses</dc:title>
</cp:coreProperties>
</file>